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1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2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3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4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5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6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27080" y="6165360"/>
            <a:ext cx="40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NSÓRCIO ESTREITO ENERGIA - C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1F21-CA1D-429D-8076-F6F82792AF2D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172200"/>
            <a:ext cx="8424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9640" y="2133720"/>
            <a:ext cx="7993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E Estre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68280"/>
            <a:ext cx="799308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idade dos Empre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o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as com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scimento do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557360"/>
            <a:ext cx="799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dade instalada: 1.08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a Assegurada: 584,9 MW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zação: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nicípios: Estreito (MA) e Aguiarnópolis (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do Reservatório: 555 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em descontar o leito do 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ílias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Urbana: 2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Rural: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héus: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32000" y="1052640"/>
          <a:ext cx="6624720" cy="1655640"/>
        </p:xfrm>
        <a:graphic>
          <a:graphicData uri="http://schemas.openxmlformats.org/drawingml/2006/table">
            <a:tbl>
              <a:tblPr/>
              <a:tblGrid>
                <a:gridCol w="2016000"/>
                <a:gridCol w="934920"/>
                <a:gridCol w="936720"/>
                <a:gridCol w="936720"/>
                <a:gridCol w="863640"/>
                <a:gridCol w="936720"/>
              </a:tblGrid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ga Própria (MW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ésc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38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6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3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35280" y="2708280"/>
          <a:ext cx="5689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89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4000" y="1125360"/>
          <a:ext cx="85690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5690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000" y="184428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ól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mass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Gá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Carvã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- (Fotovoltaica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relétr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ergia 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 Gerador com capacidade instalada = 1,5 MW (por unidad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os para implantação em regiões planas e onde a confiabilidade dos ventos predominantes assegurem uma velocidade mínima compatível com o equipament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97360"/>
            <a:ext cx="3743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uição somente visual e so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a da energia diretamente aos consumidores livres (maior ou igual a 500 k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contaminante: Licenças Ambientais facili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ção próxima ao Centr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97360"/>
            <a:ext cx="396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possui 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totalmente 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os sobre a avi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área em que estão instalados os geradores eólicos ocorre a restrição de uso para diversos f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ção área / capacidade instalada é ru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20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ass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res com pequena capacidade instalada (média = 50 MW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am de biomassa no seu processo produtivo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do a viabilidade de projetos de co-geraçã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28608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z a poluição quando utiliza resíduos sólidos industriais e/ou domésticos (lixo, madei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4920" y="3284640"/>
            <a:ext cx="396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16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antação limitada a existência de res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rmica a Carv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98900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, para atendimento da energia de p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 flexibilidade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para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uidora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vão nacional com grande teor de cinza (&gt;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básica nacional, e de ponta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íduos líquidos e sólido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talados nos centros de carga próximos às cidades, causando resistência da população em aceitar a unidade 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nível de r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porte intensivo de combustíveis (carvão) e resíduos (cinz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 aproximado de R$ 130,00 / MWh – V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63700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dade de concentrar grandes unidades de g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importado vendido em U$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ito de pagamento contínuo mesmo quando não operando (“take-or-pa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exibilidade operacional limitada em função da não existência da venda de gás flex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de implantação aproximado de R$ 130,00 / M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125360"/>
            <a:ext cx="8353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 realmente necessário aumentar a oferta de energ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alternativa de geração hidrelétrica é a melhor solu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e ao empreendedor substituir a ausência do Esta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ing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 o critério para definirmos quem é diretamente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stro dos atingidos, critérios para inclus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tratar a população menos favorec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pção única por reassentamento rural coletiv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arias opções a critério de cada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vidade dos atingidos, critérios e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to Voltaica - Sol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dade de geração de 100 a 300 W (por painel de geração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li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 aproximado d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$ 47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essidade de baterias e/ou energia alternativa (no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S DOS EMPREEND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565360"/>
            <a:ext cx="8353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e critérios dos seus encar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álogo permanente entre o Ministério Público e 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os limites de atuação e encargos d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endedor visto como Estado no atendimento das demand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16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87 MW de capacidade inst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km de vias navegáveis no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diretos: mais de 5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indiretos: mais de 16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mento de R$ 2.200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dade para a agricultura irrig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a de mais de 98% do valor da obra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AS 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916280"/>
            <a:ext cx="8353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nsação financeira pela utilização de recursos hídricos:                        R$ 13.636.91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as estruturas de lazer (pra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lhorias na infra-estrutura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arques Nacionais: R$ 11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esquisas básicas e aplicadas (EIA / RIMA, P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quisas na área de arque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560" y="12682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ito de atendimento ao universo dos atingido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etários – Indenizaç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proprietários – Somente benefícios e compensaçõ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diretos para os diretamente atingidos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indiretos para os indiretamente antigi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ndimento direto ao universo dos atingidos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ia da infra-estrutura públic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tamente atingidos: moradores na área inundada e devidamente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tamente atingidos: moradores lindeiros e eventuais usuários da área inundada e beneficiários das melhorias de infra-estrutura realizadas pelo CES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imentos de levantamento e avaliação da terra nua e benfeitorias mediante metodologia cientificamente validada e apresentada ao público atingid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ção quando requerida pelo atingido do acompanhamento do M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268280"/>
            <a:ext cx="8353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eiros de boa fé terão mesmo tratamento de proprie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ções para famílias diretamente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rural coletivo para fins pec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urbano col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urbano com infra 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ferencialmente contratar pessoas da reg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STE mantém canal aberto de comunicação com a população envolvida e as autoridades locais, através de Centro de Comunicação Social, funcionando em Carolina/MA desde 02/04/03, objetivando esclarecer ao público-alvo da região de interesse, questões relativas à implantação do empreendiment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o de Licenciamento Ambient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dido de licença de estu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11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o Termo de Refer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1/04/200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o EIA/RIMA ao IBAM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IA/RIMA disponível para consult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3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diências públicas realiz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5/07/2002 à 19/07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inici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9/01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do proces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5/02/2003 à 27/0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a visita técnica de cam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04/2003 à 11/04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issão de parec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9/08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a complement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/1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Prévi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de Instalação          dezembr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ício das obra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a unidade #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9640" y="981000"/>
          <a:ext cx="505620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50562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H="1">
            <a:off x="4660560" y="128916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59520" y="105264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streito 1.08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9:04:09Z</dcterms:created>
  <dc:creator>Tractebel Brasil</dc:creator>
  <dc:description/>
  <dc:language>en-US</dc:language>
  <cp:lastModifiedBy>Édio da Luz</cp:lastModifiedBy>
  <dcterms:modified xsi:type="dcterms:W3CDTF">2004-04-13T17:22:57Z</dcterms:modified>
  <cp:revision>196</cp:revision>
  <dc:subject/>
  <dc:title>Slide 1</dc:title>
</cp:coreProperties>
</file>